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9AC-4F18-4E7F-922A-2D0AC95A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C123-0A32-4D63-843E-77A2B28CD858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D41-2EBE-4619-B509-9253818B4B23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3C2E-3945-4230-8DF9-39C88A1D69CC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20DA-6522-48F1-BD00-11BD6AF2266A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816C-B486-458A-B2BC-1A9B9FF26638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C94-3C1F-4C45-AF9F-D03330752CB8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E37B-7A6B-49BA-81B3-9D332DB852FB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B831-A242-43EB-883C-F943C2303345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77A6-998C-4AB1-A1F5-910EA51CD7D4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E48-6B08-43A8-B9D6-F9E2CEB7F83F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8D5-CCC4-4649-B5C2-B5AC72CE7A2A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0F04-C38F-462D-98AB-3DF031A036CB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829C-1BE5-4FCA-A967-3075A2F37CC6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EE1-CBB3-460C-BB86-33AA1E1B43ED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086-B010-4D52-AC2E-8F2B9A0C0D97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286-38E2-49E1-B3D7-6C2948B53B3B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A4FE-56D4-471E-BFD9-106326D2C7FC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240-F7D9-4D6A-9640-8F1CBE79A2D6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1A25-4F90-4D2A-B141-5E5DCDAEC8E3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5A8-F172-4A11-B100-F4C35B5E3BF9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E4F9-F22F-475E-BDF3-E6E161462720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D301-4741-49A9-8CE6-9C70923EBDAF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6B2E-A42F-47E7-BF43-ADF1D9F9F962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51B-B459-4A3E-AA87-C673536A43A8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6281-9D11-49D0-B4BE-2C4E1726EDC9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7F42-C65E-4B5D-9B32-B6A806375F0D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1C6-5A5A-49CE-AA33-AA38043F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664-A44C-4D89-B0FF-B7CAD4D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776-2E49-4B64-8336-BEE58FFE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F59-BBC3-4B6F-BAB6-FA9DC42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F560-7470-4472-BD36-9E0EF1E6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F60-3D07-4448-9BCA-C2E1B95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51A3-9B3E-4382-ABE5-EF0C927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4FE3-8BBA-4682-9F20-6B9EE95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83BC-845E-45D8-B13B-FF69C9F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D9B8-BE1F-4EA9-B5A1-DE75BFB9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01E-E228-49E8-B38E-5893F13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FD9-D3F5-4591-B92E-0BEDB39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1F98-91EE-4094-8889-D41CAAF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38B6-0510-42F9-AD4D-7FD23D6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0B3-0E20-49AA-A441-16EC72D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060-0B78-4130-AFAB-C8DB3683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0CD5-6C84-418F-8007-62129175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F08-8D2F-4F14-BAF5-C110BB3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F56-1706-4FA1-B7FE-D1D4A8B6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634-4533-4C24-8AA5-F5DC3A74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E4A-3F4D-4A37-B6AA-3BDCF412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A69-B2A7-4DE6-9668-A970D3F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0D8-5216-4281-BE3A-0B7DB4F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E28-84F7-45BB-BCFC-990EA36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FD8C-DEB8-4BAF-B849-0850A7478B2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EB0B-0179-4CC9-8EC0-737FD51B813B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Ch. 52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EBMAP2"/>
          <p:cNvPicPr/>
          <p:nvPr/>
        </p:nvPicPr>
        <p:blipFill>
          <a:blip r:embed="rId1"/>
          <a:stretch/>
        </p:blipFill>
        <p:spPr>
          <a:xfrm>
            <a:off x="1143000" y="380880"/>
            <a:ext cx="7718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Immigration-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movement of individuals into a population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Emigration-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movement of individuals out of a population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 Factors that affect dens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 Factors that affect dens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.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Density-dependent factors-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Biotic factors in the environment that have an increasing effect as population size increas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Ex.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diseas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competi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parasit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Density-independent factors-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biotic factors in the environment that affect populations regardless of their dens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Ex.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temperatur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stor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habitat destruc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drought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 Factors that affect dens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124080" y="1600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mmigr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240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migr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3429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Natal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102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Mortal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71800" y="3352680"/>
            <a:ext cx="3200400" cy="642600"/>
          </a:xfrm>
          <a:prstGeom prst="rect">
            <a:avLst/>
          </a:prstGeom>
          <a:noFill/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495680" y="2209680"/>
            <a:ext cx="0" cy="99072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4495680" y="4114800"/>
            <a:ext cx="0" cy="144792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981080" y="3733920"/>
            <a:ext cx="838440" cy="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324120" y="3733920"/>
            <a:ext cx="762120" cy="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057400" y="28195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733920" y="2286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724280" y="48006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400800" y="28195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44792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Factors That Affect Future Population Growth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609480" y="2133720"/>
            <a:ext cx="83059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3. Dispersion:describes their spacing relative to each other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clumped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even or uniform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random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30" descr="so51_01"/>
          <p:cNvPicPr/>
          <p:nvPr/>
        </p:nvPicPr>
        <p:blipFill>
          <a:blip r:embed="rId1"/>
          <a:stretch/>
        </p:blipFill>
        <p:spPr>
          <a:xfrm>
            <a:off x="1066680" y="228600"/>
            <a:ext cx="5437440" cy="6292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31"/>
          <p:cNvSpPr/>
          <p:nvPr/>
        </p:nvSpPr>
        <p:spPr>
          <a:xfrm>
            <a:off x="6400800" y="838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clumpe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Text Box 1032"/>
          <p:cNvSpPr/>
          <p:nvPr/>
        </p:nvSpPr>
        <p:spPr>
          <a:xfrm>
            <a:off x="6477120" y="28954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ven (uniform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Text Box 1033"/>
          <p:cNvSpPr/>
          <p:nvPr/>
        </p:nvSpPr>
        <p:spPr>
          <a:xfrm>
            <a:off x="6477120" y="4800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rando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Line 1034"/>
          <p:cNvSpPr/>
          <p:nvPr/>
        </p:nvSpPr>
        <p:spPr>
          <a:xfrm flipH="1">
            <a:off x="5334120" y="3352680"/>
            <a:ext cx="121896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Line 1035"/>
          <p:cNvSpPr/>
          <p:nvPr/>
        </p:nvSpPr>
        <p:spPr>
          <a:xfrm flipH="1">
            <a:off x="5409720" y="5257800"/>
            <a:ext cx="121932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Line 1036"/>
          <p:cNvSpPr/>
          <p:nvPr/>
        </p:nvSpPr>
        <p:spPr>
          <a:xfrm flipH="1">
            <a:off x="5334120" y="1523880"/>
            <a:ext cx="121896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ispersion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343400" y="533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Population Dispers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Other factors that affect population grow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imiting factor-</a:t>
            </a:r>
            <a:r>
              <a:rPr b="1" lang="en-US" sz="3600" spc="-1" strike="noStrike">
                <a:solidFill>
                  <a:srgbClr val="ffffe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ny biotic or abiotic factor that restricts the existence of organisms in a specific environment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X.- 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mount of water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mount of food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qc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581280" y="190512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organisms pres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91320" y="6858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w organisms pres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00200" y="60948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w organisms pres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2514600" y="2133720"/>
            <a:ext cx="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6629400" y="228600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0" y="685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848720" y="685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457200" y="129528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066680" y="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miting Factor- Zone of Tolera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opulation Dynamic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09480" y="2133720"/>
            <a:ext cx="8001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opulation: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ll the individuals of a species that live together in an are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emography: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the statistical study of populations, make predictions about how a population will change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rowth Model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ponential Growth – Assumes no limits on resources, no competition, no pred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. 1            </a:t>
            </a:r>
            <a:r>
              <a:rPr b="1" lang="el-GR" sz="4400" spc="-1" strike="noStrike" u="sng">
                <a:solidFill>
                  <a:srgbClr val="005cb9"/>
                </a:solidFill>
                <a:uFillTx/>
                <a:latin typeface="Times New Roman"/>
              </a:rPr>
              <a:t>Δ</a:t>
            </a:r>
            <a:r>
              <a:rPr b="1" lang="en-US" sz="4400" spc="-1" strike="noStrike" u="sng">
                <a:solidFill>
                  <a:srgbClr val="005cb9"/>
                </a:solidFill>
                <a:uFillTx/>
                <a:latin typeface="Times New Roman"/>
              </a:rPr>
              <a:t>N/Δt = r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ate of growth (r) = 1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43000" y="4572000"/>
          <a:ext cx="6858000" cy="1270080"/>
        </p:xfrm>
        <a:graphic>
          <a:graphicData uri="http://schemas.openxmlformats.org/drawingml/2006/table">
            <a:tbl>
              <a:tblPr/>
              <a:tblGrid>
                <a:gridCol w="979560"/>
                <a:gridCol w="979560"/>
                <a:gridCol w="979200"/>
                <a:gridCol w="981360"/>
                <a:gridCol w="979200"/>
                <a:gridCol w="979560"/>
                <a:gridCol w="9795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rowth Model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ponential Growth – Assumes no limits on resources, no competition, no pred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. 2            </a:t>
            </a:r>
            <a:r>
              <a:rPr b="1" lang="el-GR" sz="4400" spc="-1" strike="noStrike" u="sng">
                <a:solidFill>
                  <a:srgbClr val="005cb9"/>
                </a:solidFill>
                <a:uFillTx/>
                <a:latin typeface="Times New Roman"/>
              </a:rPr>
              <a:t>Δ</a:t>
            </a:r>
            <a:r>
              <a:rPr b="1" lang="en-US" sz="4400" spc="-1" strike="noStrike" u="sng">
                <a:solidFill>
                  <a:srgbClr val="005cb9"/>
                </a:solidFill>
                <a:uFillTx/>
                <a:latin typeface="Times New Roman"/>
              </a:rPr>
              <a:t>N/Δt = r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 = 0.5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4876920"/>
          <a:ext cx="6324480" cy="1269720"/>
        </p:xfrm>
        <a:graphic>
          <a:graphicData uri="http://schemas.openxmlformats.org/drawingml/2006/table">
            <a:tbl>
              <a:tblPr/>
              <a:tblGrid>
                <a:gridCol w="419040"/>
                <a:gridCol w="558720"/>
                <a:gridCol w="489240"/>
                <a:gridCol w="590400"/>
                <a:gridCol w="533520"/>
                <a:gridCol w="533160"/>
                <a:gridCol w="609840"/>
                <a:gridCol w="609480"/>
                <a:gridCol w="609480"/>
                <a:gridCol w="685800"/>
                <a:gridCol w="6858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7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5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8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92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ww.galaxynet.com/~corvid/eco/images/exponential_growth.gif"/>
          <p:cNvPicPr/>
          <p:nvPr/>
        </p:nvPicPr>
        <p:blipFill>
          <a:blip r:embed="rId1"/>
          <a:stretch/>
        </p:blipFill>
        <p:spPr>
          <a:xfrm>
            <a:off x="380880" y="380880"/>
            <a:ext cx="8401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09480" y="2133720"/>
            <a:ext cx="8001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rrying Capacity-</a:t>
            </a:r>
            <a:r>
              <a:rPr b="1" lang="en-US" sz="3200" spc="-1" strike="noStrike">
                <a:solidFill>
                  <a:srgbClr val="ffffe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cb9"/>
                </a:solidFill>
                <a:latin typeface="Arial"/>
              </a:rPr>
              <a:t>(K)</a:t>
            </a:r>
            <a:r>
              <a:rPr b="1" lang="en-US" sz="3200" spc="-1" strike="noStrike">
                <a:solidFill>
                  <a:srgbClr val="ffffe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maximum population size that can be supported by the available resour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re can only be as many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organisms as the environmental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resources can suppor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Number varies on environment/speci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Growth Mode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21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rrying Capacity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52280" y="609480"/>
            <a:ext cx="899172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 flipV="1">
            <a:off x="1066680" y="990360"/>
            <a:ext cx="0" cy="518148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1066680" y="6172200"/>
            <a:ext cx="792504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82" name="AutoShape 6"/>
          <p:cNvCxnSpPr>
            <a:stCxn id="181" idx="0"/>
          </p:cNvCxnSpPr>
          <p:nvPr/>
        </p:nvCxnSpPr>
        <p:spPr>
          <a:xfrm flipH="1" flipV="1" rot="5400000">
            <a:off x="3580200" y="627840"/>
            <a:ext cx="3048840" cy="8078040"/>
          </a:xfrm>
          <a:prstGeom prst="curvedConnector5">
            <a:avLst>
              <a:gd name="adj1" fmla="val 7546"/>
              <a:gd name="adj2" fmla="val 24730"/>
              <a:gd name="adj3" fmla="val 7546"/>
            </a:avLst>
          </a:prstGeom>
          <a:ln w="38160">
            <a:solidFill>
              <a:srgbClr val="33cc33"/>
            </a:solidFill>
            <a:miter/>
          </a:ln>
        </p:spPr>
      </p:cxnSp>
      <p:sp>
        <p:nvSpPr>
          <p:cNvPr id="183" name="Line 7"/>
          <p:cNvSpPr/>
          <p:nvPr/>
        </p:nvSpPr>
        <p:spPr>
          <a:xfrm>
            <a:off x="1066680" y="3124080"/>
            <a:ext cx="80773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Freeform 8"/>
          <p:cNvSpPr/>
          <p:nvPr/>
        </p:nvSpPr>
        <p:spPr>
          <a:xfrm>
            <a:off x="1143000" y="507960"/>
            <a:ext cx="1955880" cy="5587920"/>
          </a:xfrm>
          <a:prstGeom prst="pie">
            <a:avLst/>
          </a:pr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429000" y="2514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Carrying Capacity (k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80880" y="914400"/>
            <a:ext cx="685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N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733920" y="6172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124080" y="106668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J-shaped curve (exponential growth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6019920" y="380988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S-shaped curve (logistic growth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arryingc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carrying_capacity_de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rowth Model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gistic Growth: Factors in carrying capacity (K)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K = 1000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4" name="Picture 3" descr="log.bmp"/>
          <p:cNvPicPr/>
          <p:nvPr/>
        </p:nvPicPr>
        <p:blipFill>
          <a:blip r:embed="rId3"/>
          <a:srcRect l="0" t="0" r="0" b="51553"/>
          <a:stretch/>
        </p:blipFill>
        <p:spPr>
          <a:xfrm>
            <a:off x="1295280" y="3809880"/>
            <a:ext cx="6248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bio.miami.edu/dana/pix/logisticpopns.gif"/>
          <p:cNvPicPr/>
          <p:nvPr/>
        </p:nvPicPr>
        <p:blipFill>
          <a:blip r:embed="rId1"/>
          <a:stretch/>
        </p:blipFill>
        <p:spPr>
          <a:xfrm>
            <a:off x="0" y="1066680"/>
            <a:ext cx="9121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2 Life History Patter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1. r-selectio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short life spa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small body siz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reproduce quickly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have many young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little parental car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Ex: cockroaches, weeds, bacteria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8" name="Picture 6" descr="flies"/>
          <p:cNvPicPr/>
          <p:nvPr/>
        </p:nvPicPr>
        <p:blipFill>
          <a:blip r:embed="rId2"/>
          <a:stretch/>
        </p:blipFill>
        <p:spPr>
          <a:xfrm>
            <a:off x="4419720" y="1752480"/>
            <a:ext cx="2590560" cy="243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ockroaches"/>
          <p:cNvPicPr/>
          <p:nvPr/>
        </p:nvPicPr>
        <p:blipFill>
          <a:blip r:embed="rId3"/>
          <a:stretch/>
        </p:blipFill>
        <p:spPr>
          <a:xfrm>
            <a:off x="6095880" y="4267080"/>
            <a:ext cx="2781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opulation Dynamic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2133720"/>
            <a:ext cx="8686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Size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Density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Dispersion Patter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(clumped, uniform, random)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2 Life History Patter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28600" y="19051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2. K-selectio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long life sp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large body siz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reproduce slowly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have few young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provides parental car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Ex: humans, elephant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2" name="Picture 7" descr="r53180_143364"/>
          <p:cNvPicPr/>
          <p:nvPr/>
        </p:nvPicPr>
        <p:blipFill>
          <a:blip r:embed="rId2"/>
          <a:stretch/>
        </p:blipFill>
        <p:spPr>
          <a:xfrm>
            <a:off x="4038480" y="2895480"/>
            <a:ext cx="2210040" cy="3810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giraffe_babies_inset"/>
          <p:cNvPicPr/>
          <p:nvPr/>
        </p:nvPicPr>
        <p:blipFill>
          <a:blip r:embed="rId3"/>
          <a:stretch/>
        </p:blipFill>
        <p:spPr>
          <a:xfrm>
            <a:off x="6248520" y="2819520"/>
            <a:ext cx="259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uman Population Growth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o we have a K??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Yes, but our technology aims to increase it everyday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wp_history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2133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1. Size: number of individuals in an are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7" descr="Mute_Swan"/>
          <p:cNvPicPr/>
          <p:nvPr/>
        </p:nvPicPr>
        <p:blipFill>
          <a:blip r:embed="rId1"/>
          <a:stretch/>
        </p:blipFill>
        <p:spPr>
          <a:xfrm>
            <a:off x="1981080" y="2895480"/>
            <a:ext cx="61722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51"/>
          <p:cNvSpPr/>
          <p:nvPr/>
        </p:nvSpPr>
        <p:spPr>
          <a:xfrm>
            <a:off x="609480" y="2133720"/>
            <a:ext cx="8001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Growth Rate: Birth Rate (natality) - Death Rate (mortality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How many individuals are born vs. how many d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Birth rate (</a:t>
            </a:r>
            <a:r>
              <a:rPr b="1" i="1" lang="en-US" sz="3200" spc="-1" strike="noStrike">
                <a:solidFill>
                  <a:srgbClr val="00264c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) − death rate (</a:t>
            </a:r>
            <a:r>
              <a:rPr b="1" i="1" lang="en-US" sz="3200" spc="-1" strike="noStrike">
                <a:solidFill>
                  <a:srgbClr val="00264c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) = rate of natural increase (</a:t>
            </a:r>
            <a:r>
              <a:rPr b="1" i="1" lang="en-US" sz="3200" spc="-1" strike="noStrike">
                <a:solidFill>
                  <a:srgbClr val="00264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b – d = 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Rectangle 2053"/>
          <p:cNvSpPr/>
          <p:nvPr/>
        </p:nvSpPr>
        <p:spPr>
          <a:xfrm>
            <a:off x="114300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opulation_pyramid_grow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0" y="4267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-REPRODUCTI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762120" y="4952880"/>
            <a:ext cx="7010280" cy="9907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3520" y="2971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ODUCTI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2286000" y="3352680"/>
            <a:ext cx="3809880" cy="16002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029200" y="838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-REPRODUCTI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276720" y="990720"/>
            <a:ext cx="1752480" cy="236196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143000" y="457200"/>
            <a:ext cx="7010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Population of a Stable Country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8" name="Picture 3" descr="population_pyramid_stable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9" descr="c52x22pyram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2133720"/>
            <a:ext cx="830592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2. Density: measurement of population per unit area or unit volum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Formula: D</a:t>
            </a:r>
            <a:r>
              <a:rPr b="1" lang="en-US" sz="3600" spc="-1" strike="noStrike" baseline="-25000">
                <a:solidFill>
                  <a:srgbClr val="00264c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= </a:t>
            </a:r>
            <a:r>
              <a:rPr b="1" lang="en-US" sz="3600" spc="-1" strike="noStrike" u="sng">
                <a:solidFill>
                  <a:srgbClr val="00264c"/>
                </a:solidFill>
                <a:uFillTx/>
                <a:latin typeface="Arial"/>
              </a:rPr>
              <a:t>N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Pop. Density = # of individuals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÷ unit of spac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867280" y="4648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2:44:04Z</dcterms:created>
  <dc:creator>Heather Cadorette</dc:creator>
  <dc:description/>
  <dc:language>en-US</dc:language>
  <cp:lastModifiedBy>leanne</cp:lastModifiedBy>
  <dcterms:modified xsi:type="dcterms:W3CDTF">2010-04-07T19:29:55Z</dcterms:modified>
  <cp:revision>24</cp:revision>
  <dc:subject/>
  <dc:title>PowerPoint Presentation</dc:title>
</cp:coreProperties>
</file>